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06B6A-A524-43CC-BA41-476C1D616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80C89-BED9-4798-B3AB-70397D08E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35ECB-CF80-47C1-AB7C-DD9C17521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E5A83-476E-4B22-9194-B5F807E4E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5B9EB-1816-43CD-BFD4-0C68C66A0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88DDA-AC25-4DAE-B771-D86118CBC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F225D-1867-4B4B-9DAA-BEA4964F8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E9245-6662-4B7C-8408-C9AEC6D68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DF05C-15F1-40AC-B018-67A65BA8F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01776-34F1-4162-8674-E80D11EF5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B963A-CF21-4DBD-8F21-230A9D12A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EDB02-7B8E-44B6-A0C2-8544E6872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3FA27-F8AB-4830-BC19-758CAE1C4D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ACIZI ŞI BAZE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09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Manualul de Chimie, clasa a IX-a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, Elena Alexandrescu, Viorica Zaharia)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457200" y="228600"/>
            <a:ext cx="8001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4"/>
          <p:cNvSpPr/>
          <p:nvPr/>
        </p:nvSpPr>
        <p:spPr>
          <a:xfrm>
            <a:off x="533520" y="6248520"/>
            <a:ext cx="2571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Sesiunea iunie - iuli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267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cizii şi bazele sunt substanţe compuse anorganice sau organice implicate în multe procese naturale sau în reacţiile aplicate în laboratoarele de chimie şi în industria chimică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ndicatorii acido-bazici sunt substanţe organice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lorate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re îşi schimbă structura şi, în consecinţă, culoarea, în funcţie de caracterul acid sau ba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c al soluţie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În soluţia apoasă diluată de acid clorhidric, concentraţia ionilor 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o-RO" sz="1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este mare, pentru că, practic, toate moleculele de acid clorhidric au ionizat la dizolvare. Acidul clorhidric este un acid tare. În aceste condiţii, mai multe molecule de turnesol şi-au schimbat structura şi culoarea roşie este mai intensă.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unt şi alte teorii în chimie care definesc noţiunile de acid şi bază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În anul 1880, Svante Arrhenius  a definit acizii ca substanţe compuse care, în soluţie apoasă, formează ioni hidrataţi de h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rogen (H</a:t>
            </a:r>
            <a:r>
              <a:rPr b="0" lang="ro-RO" sz="1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(aq)) şi bazele ca substanţe compuse care eliberează în soluţie ioni metalici (Me</a:t>
            </a:r>
            <a:r>
              <a:rPr b="0" lang="ro-RO" sz="1200" spc="-1" strike="noStrike" baseline="30000">
                <a:solidFill>
                  <a:srgbClr val="000000"/>
                </a:solidFill>
                <a:latin typeface="Arial"/>
              </a:rPr>
              <a:t>n+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) şi ioni hidroxid (HO</a:t>
            </a:r>
            <a:r>
              <a:rPr b="0" lang="ro-RO" sz="1200" spc="-1" strike="noStrike" baseline="30000">
                <a:solidFill>
                  <a:srgbClr val="000000"/>
                </a:solidFill>
                <a:latin typeface="Arial"/>
              </a:rPr>
              <a:t> -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ubstanţe ca HCI, 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, C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OH sunt acizi Arrhenius, iar substanţe ca NaOH, Ca(OH)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, KOH sunt baze Arrheni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7" descr=""/>
          <p:cNvPicPr/>
          <p:nvPr/>
        </p:nvPicPr>
        <p:blipFill>
          <a:blip r:embed="rId1"/>
          <a:stretch/>
        </p:blipFill>
        <p:spPr>
          <a:xfrm>
            <a:off x="5181480" y="1828800"/>
            <a:ext cx="302904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8"/>
          <p:cNvSpPr/>
          <p:nvPr/>
        </p:nvSpPr>
        <p:spPr>
          <a:xfrm>
            <a:off x="533520" y="1066680"/>
            <a:ext cx="7848360" cy="33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plicaț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1. Compoziţia  procentuală de masă a unui oxoacid cu M=98 este:  2,04% H, 32,653% S, 6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,306% 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tabiliţi formula moleculară a oxoacidulu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crieţi ecuaţiile reacţiilor de ionizare ce au loc la dizolvarea oxoacidului în ap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preciaţi tăria oxoacidului, ştiind că are constantele de aciditate : Ka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=10</a:t>
            </a:r>
            <a:r>
              <a:rPr b="0" lang="ro-RO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şi Ka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=1,2*10</a:t>
            </a:r>
            <a:r>
              <a:rPr b="0" lang="ro-RO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2. Metilamina (C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) este o bază slabă. În soluţia apoasă de metilamină, se află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umai ionii C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o-RO" sz="1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şi HO</a:t>
            </a:r>
            <a:r>
              <a:rPr b="0" lang="ro-RO" sz="1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molecule de C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, ionii C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o-RO" sz="1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şi HO</a:t>
            </a:r>
            <a:r>
              <a:rPr b="0" lang="ro-RO" sz="1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molecule de C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şi molecule de 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171880" indent="-34308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3. Acidul iodhidric  (HI) este un acid foarte tare. În soluţia apoasă de acid iodhidric se află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molecule de HI şi molecule de 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O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onii de 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o-RO" sz="1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 şi I</a:t>
            </a:r>
            <a:r>
              <a:rPr b="0" lang="ro-RO" sz="1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în concentraţii egale cu concentraţia iniţială a acidulu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molecule de HI şi ionii 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o-RO" sz="1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şi I</a:t>
            </a:r>
            <a:r>
              <a:rPr b="0" lang="ro-RO" sz="1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61596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lev</cp:lastModifiedBy>
  <dcterms:modified xsi:type="dcterms:W3CDTF">2012-06-18T11:47:34Z</dcterms:modified>
  <cp:revision>3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